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623-6095-4DB9-936C-2F5E5A00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AB4-2823-4010-926A-B37440AA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7FE-7C54-4A78-96BC-A33352DC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739-F1CF-43E6-96B0-7C0FFE97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AC0-6F51-4D50-B7C6-AA485A6C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8EF-8E49-4020-87CF-2F0AD432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B77-224C-42EC-A436-699138E4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4D1-CAF5-4BD4-B864-2197F599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995-7E73-490A-BADC-06A7697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2DB-73D2-4C2E-991E-3B36C9F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AC5-001C-432F-AB8E-B12573AB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7F3-F1AB-48BF-9098-89D46885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15CA-F1D3-43F8-A2CF-5602ABB4A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Oakley, Inc. account for a credit transaction to its distributors the same way that it does for a retail custom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 write-off method for uncollectible accounts is used mostly by companies with a large amount of receiv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2008080"/>
          <a:ext cx="448308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08080"/>
                    <a:ext cx="44830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696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ote is said to be dishonored when it is not paid in full at the maturity d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ceivables that are expected to be realized in cash within one year are reported in the current assets section of the balance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4940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eivable for which a formal, written instrument of credit is issued is a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eceiv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rec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actoring arrangement, the risk of uncollectible accounts is born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0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buying the accounts receivable (f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selling the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he company buying and the company selling the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the company buying nor the company selling the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methods commonly used to estimate uncollectible accounts receivable at the end of a period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14800" cy="36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total assets and percent of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sales and analysis of recei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current assets and percent of total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net income and percent of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wance for Doubtful Accounts is classified as a(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asset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revenu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lance in Allowance for Doubtful Accounts is not considered when computing bad debts using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5120"/>
            <a:ext cx="411480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write-off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receivable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age of sale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allowance method, the journal entry to record the company’s estimate of uncollectible accounts include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751040"/>
          <a:ext cx="448308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51040"/>
                    <a:ext cx="448308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2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Allowance for Doubtfu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to Allowance for Doubtfu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 to Accounts Rece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to Bad Debts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nalysis of receivable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1148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stimates based on percent of sales to account for bad de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use an allowanc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stimates based on analysis of receivables to account for bad de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by small companies and companies with relatively few recei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most companies such as Oakley, Inc. provide services and sales on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terest on a $10,000, 10%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-month note receivabl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096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that is due on the due date of a notes receivable and represents the sum of the face value and the interest is calle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it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em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realizabl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ustomer dishonors a note receivable, the amount that is transferred back to an accounts receivable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114800" cy="32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alue of the original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mount to be collected on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alue of the note plus any interest due on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due on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741240"/>
            <a:ext cx="8305920" cy="2839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current year, Accounts Receivable has a balance of $800,000; Allowance for Doubtful Accounts has a credit balance of $7,500; and net sales for the year total $3,500,000. Bad debt expense is estimated at ½ of 1% of net 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(a) the amount of the adjusting entry for uncollectible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3962520"/>
          <a:ext cx="8229600" cy="2133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1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114800" cy="2544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4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7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7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200" y="662040"/>
            <a:ext cx="8305920" cy="26096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end of the current year, Accounts Receivable has a balance of $800,000; Allowance for Doubtful Accounts has a credit balance of $7,500; and net sales for the year total $3,500,000. Bad debt expense is estimated at ½ of 1% of net s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(b) the adjusted balances of Accounts Receivable, Allowance for Doubtful Accounts, and Bad Debt Expe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3524400"/>
          <a:ext cx="8229600" cy="2803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792,500; Allowance for Doubtful Accounts, $17,500; and Bad Debt Expense, $17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800,000; Allowance for Doubtful Accounts, $25,000; and Bad Debt Expense, $17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800,000; Allowance for Doubtful Accounts, $17,500; and Bad Debt Expense, $17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Receivable, $800,000; Allowance for Doubtful Accounts, $25,000; and Bad Debt Expense, $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49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0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3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572000" cy="46483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792,500; Allowance for Doubtful Accounts, $17,500; and Bad Debt Expense, $1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800,000; Allowance for Doubtful Accounts, $25,000; and Bad Debt Expense, $1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800,000; Allowance for Doubtful Accounts, $17,500; and Bad Debt Expense, $1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ounts Receivable, $800,000; Allowance for Doubtful Accounts, $25,000; and Bad Debt Expense, $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843120"/>
            <a:ext cx="8305920" cy="1368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Day Surgery Center received a 120-day, 6% note for $40,000, dated March 14 from a patient o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4" name="Rectangle 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8"/>
          <p:cNvSpPr/>
          <p:nvPr/>
        </p:nvSpPr>
        <p:spPr>
          <a:xfrm>
            <a:off x="457200" y="2428920"/>
            <a:ext cx="8305920" cy="5205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876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maturity value of the n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3200400"/>
          <a:ext cx="8229600" cy="214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2,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3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19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2,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0,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41,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949320"/>
            <a:ext cx="8305920" cy="1368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Day Surgery Center received a 120-day, 6% note for $40,000, dated March 14 from a patient o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0" name="Rectangle 12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3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5"/>
          <p:cNvSpPr/>
          <p:nvPr/>
        </p:nvSpPr>
        <p:spPr>
          <a:xfrm>
            <a:off x="457200" y="4281480"/>
            <a:ext cx="8305920" cy="969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6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Recei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57200" y="2655720"/>
            <a:ext cx="8305920" cy="1373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876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urnal entry to record the receipt of the payment of the note at maturity i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companies such as Oakley, Inc. collect on all of their credit trans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891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84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TPChart"/>
          <p:cNvGraphicFramePr/>
          <p:nvPr/>
        </p:nvGraphicFramePr>
        <p:xfrm>
          <a:off x="5143680" y="2514600"/>
          <a:ext cx="38620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514600"/>
                    <a:ext cx="3862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9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8-5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457200" y="574560"/>
            <a:ext cx="830592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ay Surgery Center received a 120-day, 6% note for $40,000, dated March 14 from a patient on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57200" y="1828800"/>
            <a:ext cx="8305920" cy="6570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Receiv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457200" y="1219320"/>
            <a:ext cx="8305920" cy="6426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56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urnal entry to record the receipt of the payment of the note at maturity i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4114800" cy="1523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ervice companies and merchandising companies use the same rules for recording and reporting accounts receivable trans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mall and large companies use the same rules for recording and reporting accounts receivable trans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s Receivable is credited when a company has a credit s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thods of accounting for uncollectibles are the direct write-off method and the allowanc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836720"/>
          <a:ext cx="448308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36720"/>
                    <a:ext cx="448308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96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allowance method, Bad Debt Expense is recorded by estimating uncollectible accounts at the end of the accounting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24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osing entry reduces receivables to their net realizable value and reduces the uncollectible expense with reven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752480"/>
          <a:ext cx="4481280" cy="50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52480"/>
                    <a:ext cx="448128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7:02:36Z</dcterms:created>
  <dc:creator> </dc:creator>
  <dc:description/>
  <dc:language>en-US</dc:language>
  <cp:lastModifiedBy>Leslie</cp:lastModifiedBy>
  <dcterms:modified xsi:type="dcterms:W3CDTF">2008-12-30T03:05:39Z</dcterms:modified>
  <cp:revision>47</cp:revision>
  <dc:subject/>
  <dc:title>Do you think that FedEx Kinko’s provides a large amount of its services to its customers on account?</dc:title>
</cp:coreProperties>
</file>